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9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1F1D-DAD2-4F17-9381-303D378F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904C-AD9A-44E8-9591-B2372B21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5EBAF-04D9-4E0B-8121-CF760372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33EF4-0714-4DEA-9D42-8532C89C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BFAE3-2830-4EEF-9C00-0FC6B83C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929E7-995E-47B6-8F01-0401C729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48ABF-E409-4E5A-98B6-ECE42160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EEB04-C77D-4CD0-8946-12292854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52C85-AEA3-490A-AE1B-EC8A17DF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F875F-CF4F-4CC8-8B61-6DEE1B99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B0687-DE88-4970-884D-5B93B0DC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AE5FF-DF0D-4051-8BDC-3F5FF92A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A66-ACB4-441B-ADAA-B9930EB9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1B070-599A-471A-B19F-2AF642B1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08D3C-18C8-4C8D-9F41-31C8C890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021B9-3D37-4AD9-BC7C-F0CFB4F0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67B3A-23EB-44CD-93CF-A57FE370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4B7ED-C5D8-4997-93A5-20E8B131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F793A-24E6-4A5E-AB92-78126668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E9FAD-CD2B-401F-AD9E-7DE4ED6F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F686E-36B1-42D6-84A7-F05F2E3B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CE808-F701-45CD-9BD2-516F567C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47061-259E-47CA-B03C-9485AE8F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B0E9-CD79-422A-B252-D28D2B57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88864-822C-423E-AB61-F3EF51A8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354CB-0E50-4BEF-B581-F79711BD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5FE15-D898-4DFC-AF52-BB43FDE5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A5BD1-5330-4AC0-9D89-CDA85CF5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9B233-C9F2-4EBF-8F75-C11A5954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450DE-39F9-4278-ABE8-65A4DF16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A08E6-C26C-4BC9-AED7-5097D4FB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374B0-5853-47C4-A6AD-6957588D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E96AE-A583-4F54-A9A2-3F6C6F5D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C1D74-B5D6-42EE-8318-0F58AC47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F7C4-7C78-4EAD-B916-304CFC4A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389B3-78A4-4ED8-B1E4-18939F61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34738-B326-43A4-8392-5FA5F281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4BB98-BE9D-4DD8-B8B7-5CB304CA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D0B74-E053-40CF-8F80-1B0558D6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195FB-667B-4A59-B18E-351F8105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BD636-B7C4-4390-85C0-E9A91DCC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E4153-FA00-40D6-A17D-0250D41B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97D5E-B77C-4CE2-B3B3-C5B50676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5A281-EEAD-47BE-B37D-3023539B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48520-E22A-4C8F-AC8D-DBE26B67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2697-A134-422A-8BAC-4648E73E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086D7-92B3-44A2-A270-656AE466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2D4F4-7432-4621-B317-52E81987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A99A1-1E50-43B7-B499-C86E8C47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2EE70-A1C1-4FFD-9B83-78DF35C2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1A44E-D6FA-4B53-812E-69824542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42F723-4759-4FF0-A38F-630A0518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3294C5-1593-403C-8273-099B6963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A17632-518D-48FD-AEF5-99F1EC3B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4EA01-7C29-40EE-A464-B44CDA9B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E6FB0-34C3-4BB9-AFFC-BC00930D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3ACA-35AD-46AD-8D25-4F2EB92B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6F7AF7-541C-4976-888A-19B25757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A2C33-D97B-452C-9949-DE1AAD66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7F48D-59C4-456D-ACAA-8D9C5594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79DAAF-D24B-4E65-9AB4-B18BABD6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08193D-F46F-4247-B874-ABA2DE1D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E848F2-AC67-4208-B1A3-EEE9E633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A2DB97-C8D7-4877-9202-36CAEA7C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4757FF-5CF7-4E2A-A946-4DF82999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748695-661F-466F-BD24-34C12491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A31A7C-0979-40C9-ADD8-7B22A04E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53CC-380C-4817-BF10-C6862903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9F4D53-FDCE-4522-9038-B2FE306E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B96FC1-BF74-488D-B4F0-03CF124B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118284-CE2F-42DD-9BA7-5A3E6920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67B316-B692-4E8D-B368-6B9AC6CE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27EC9D-FC27-45C2-9272-FEDDF982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05799B-5D03-4CF5-9B2C-1827A41F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94B702-C457-4711-BA9D-BF9911A7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C1646B-C72A-404A-A885-E6934223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B0F083-1A7F-43E9-A79F-F8184749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E5402F-26DD-485F-8585-FB70AA6F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7C95-EAD1-419F-A492-34A263A1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723520-D5AA-4CF4-9809-EA38DBAC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A888A3-043E-4F52-A627-57237295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0C3165-F451-4A3F-AD05-798C0B29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B0D85C-DF05-4D44-9795-75785520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2D3278-C8DA-42DB-9C06-7F10491B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10D36A-869B-4F7C-B654-B17395F9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D1BAEC-348D-4D5F-8C96-F4E0BFA1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90792A-F7CA-4086-AC97-D3DDBEA1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706C0D-A4A6-41CC-BDF6-122ABABD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FE3FF8-0B8D-495A-919B-68C61848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9B08-0C79-4003-8B60-35A68E24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531F81-2451-4A66-A28A-F77DD5A5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49CD05-9D8B-44CC-9833-E4989C62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57BFB7-4FFF-4828-AD44-0FCC4199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17C4BB-8527-419A-9ADD-344B20B2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EDEB0F-470B-4094-A6D9-D2F74054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309161-1FF0-4642-8D92-8D1BE9F9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102F32-5677-4B3C-ABC9-69542509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01182B-D248-448E-B84A-008BEB90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E8DCC2-9D56-41EC-9ECB-8CCDD97A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B92ED0-2643-4412-A27F-2D2DEC74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D57C-C4E9-401E-AD18-9BA0B12C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A95543-026F-45B6-AB23-233763B1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1752E1-995D-489B-9236-D8571962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D99F5D-5110-46B8-ACE5-763069D2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847283-BB97-4EC1-9DAD-C575E5D9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E48137-6FCE-4AB7-8CD9-E84BD640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8346D0-1024-425D-9D01-FE533468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CD0E0C-3FD8-4BC9-872A-9551A42C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B2D43F-24E1-4CFD-82A5-04F3A6FF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D9B61F-02EC-4C8C-A9FA-539A08A3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0FFA5D-1288-4282-BDE2-78E6A19B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9F82-CC4B-42B5-BB0E-2CBB0070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1CCD-AC84-4052-BD22-8FB961DA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F49541-D33C-4A7C-8EA0-B64EFE36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9D7853-AABC-4729-B4AC-A90B7366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AD8FDF-1AC0-4276-9596-99C416E7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3DAA33-DF69-4BF0-B964-CB0968F7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19CD1B-86C2-4B40-817F-A4F20877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53F3A9-6393-4309-98AF-5C2A25D0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F6F10E-7E67-4714-8868-791218F6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D6A7E9-9B23-464B-90AB-DA0F7058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69C143-758A-4E19-8E03-39CE7C11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B94D3F-31F7-4D4E-A746-5F17C7AE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58A5-9B88-463B-85DA-069619C9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4D1E7F-BB76-4EDE-8FA0-9DFC08B1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A57E5E-D116-4C67-ABA5-80655FF1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BA20C4-F790-4369-A37D-3F01F276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B0D710-D42C-438E-B3DA-FDAC1E0B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7E9F31-4AF2-4204-A14A-B157098A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9593C1-DFBD-4CF6-9E69-B92E2B3A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466324-475F-4686-A13D-14E3F66C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2262F1-9005-4F79-99F9-3CAB7C15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E11493-0C39-43AA-8686-49AEE464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9844FD-8959-4C45-B7CE-A6BC21BE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330E-A096-43F8-8E19-8971EC61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862101-C8F9-4845-8640-A7A3D539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C038E4-8B53-4B83-BD40-4880B3CD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B1341B-D5E7-45E2-92A1-DDFF1AFD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C35DBA-ECFF-404A-A1B9-515AA3DB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8B7BD7-C92D-42BA-8D17-2364C26E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B4EB47-9C13-4C78-A372-CF0845FD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948FD8-32CC-4DE7-96EB-04423C5F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5934E1-92CE-4FEC-BB47-C402F7B4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E3AC5F-7577-4DA7-9696-5197B9DC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996F08-4D6A-4940-8F7C-BA2FBAE7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CFE5-6FEF-47A1-A9B8-0237882A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ECF7B1-A0F8-4CD4-8981-AE44BB41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75E296-A042-4D91-AFC4-9DEC9E32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F85B8D-F2E0-4BF8-96A8-AC1D45F6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0C7DA0-AF13-42E3-8B7E-B91559A4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F4C16F-EE88-416C-98A8-AFE25E3A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80D60D-A631-45C6-BB64-24EC4206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B47FFF-FC39-4C47-8D64-3E9C76FE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F7E1D2-95FF-410C-89AC-C08CDA8F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AB1318-C1CB-4F7C-B767-A2076105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7336F2-A046-4CCF-B7CF-6974C505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E353-DC7F-4376-BFEC-742BA7AA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ACC719-8A94-4246-961B-1FFDFBDD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AC39D9-935D-48E7-BB2C-4CEB727A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45E631-1D46-49DA-8E1F-D3840514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969310-99AA-4DF4-B093-FDC99E6C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7D1A64-67DB-4361-8B69-FE17457E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B47F44-06F9-45C8-853A-3056BAC9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400753-22F3-475D-A26F-95612F26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305986-A7D7-457C-9EC6-0A6832DD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03509A-F6AD-4F71-B974-A2285DAB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76EBE7-0CF1-4811-8048-22EECD8C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D4F62-DA8F-49DE-9BF9-90977866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F28986-97E2-473B-ABC3-8B6B11E0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63A2D0-058C-45A7-8260-937DF2D9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875E42-08A4-4CAF-952D-7A846E31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593219-9CAC-4B0D-BCCA-E3CF8B42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C4B30E-D869-440A-AF43-008CC9FD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4CABD9-743E-492E-A6C2-7556DC3A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DDC082-A615-45F7-9F42-3E1F674A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1AA4C3-5288-4EBA-88FA-03BBC82F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CC7354-A0C3-452D-80D7-9877658D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A9DBF9-C4EE-4BED-A3B7-DCC2485F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55EAF-21FE-445A-B7C5-14B93922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210AA9-2C9F-4445-8B7F-B0BB2A48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61E30D-EEBB-4572-AFDF-C786DA10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2DD2E3-27AD-46F9-B142-49D773DB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86CF98-75C8-4FB8-8FA0-0BDD6D847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442D81-FD55-4659-8C76-A49F1BFC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B9E6BD-9790-496E-954F-463F726D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E28640-1612-457F-BE1B-33A0D38C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1B0BC5-AB5B-4B71-8599-FA2789B0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CC523E-4B5C-49B8-93C4-06479696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C05AB5-D744-4223-9132-93E26DE1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8A99A-A75B-4189-8447-235E8C67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62C181-7D56-482B-8E00-8065F46C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8B2981-3A63-4295-8F5D-D5A31607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BFFDE5-7320-47EC-A8D3-A0CB7D09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54CA1B-5E34-4638-A3A3-FAEC3EFF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464211-235C-4BB9-8D38-1922713C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307328-9FD5-49A6-9FBB-26769BF1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07DF5C-26DF-4056-9759-7AB72737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4111D1-8FC2-4AE3-994A-8C52C35B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A7605B-F9D1-48DA-B3F1-3484F90F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A85C3C-6A28-4D93-821F-333A831A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C9F15-49FC-4498-AEB7-F3B21F9D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9B48A3-4AAA-44FC-94C5-AC9FEDD7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676BB2-75DC-4644-B969-1A49EBAB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7E6279-33BA-4FCC-A091-F309C2AC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952D55-E0B9-4386-93B8-85F8B86A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514B8B-FC95-4549-8446-C6C89CD3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078365-FFC6-4FBA-962D-2DB7DC59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CC62FC-3797-4C57-92DF-B724B0C4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8F4FED-BB87-4C66-868F-AB39A368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1905B5-7DA6-4833-BCFF-719432AA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94D3EA-FD12-41F4-906F-75466700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2E005-A824-45CE-83F0-3B4183BA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BB61AF-AC10-4297-BF77-06A066C7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69EFB0-816D-40ED-AA3B-0432527E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8AA8EF-6C96-4F68-93E2-1FDBB854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A8BC19-BAA1-4049-A7C9-081CC77C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F8231F-BC7F-4864-B729-22B02B59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898AC1-FDA3-4EA1-B13B-5283BB42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447E0A-E4FE-43D4-9EAC-7B7C5FFA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F6B578-1442-45C4-8D94-DAFCADA8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4E1E29-82FC-4765-B389-4AB5BFFA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433119-4E28-473D-A575-CF255FA4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AC74-21F4-4933-BA59-10E1BECD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F1B98-3A07-4289-AADA-458237E7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CC86E9-C9C4-4D6D-9D8C-DFF1062E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35523A-E9C2-44C8-A79E-15919333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95FE87-A6A6-47FF-8DDB-6949D0BE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FDA874-1095-4A32-8529-1E0F32A9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D946BE-4AF5-4DFA-98B2-A59A2340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8F85E1-5760-41F6-A25A-5E640F20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4BAACE-99E0-4EB5-9B50-47123787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DAE686-F53D-444D-8CA0-61240BC9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4669D3-FF5E-42B9-A302-442347FE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ED918C-2DD6-43F5-8A6D-D0813CDC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A466B-AC40-40E2-B6F2-443169D4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0D1D28-6948-48EA-982C-51F6C788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4CACF5-D96D-4D46-A72B-A9B48134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25A59F-1431-415D-9F8B-7035E84A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A9FF7E-FE4C-4029-9A17-C7B4ACAB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8ED884-2366-4FD0-94C8-7CE6EA51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B3522B-456E-4E9B-A801-26FB8FC8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49EB07-3F59-4454-91D4-A6A910CC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7314BA-4545-47E7-9CF8-B6F274F8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36B454-8F8D-4DD5-86CF-0ABBE8FD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E5409E-AB56-494E-A9EC-598EAF45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94987-D13E-4AB5-8315-E89EEB07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2BB1AA-84BF-426A-8B22-AF18A3D3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80CF30-FE56-4508-B5C7-50FFDC0D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5EF9E7-8A85-461F-8D25-F8A74A73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0C5182-BE87-4E92-91F8-BE7432BF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E0FCB2-A460-477D-9920-1702F31F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BE81F-D200-4DCA-91C7-735F9C66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DAFCE-10F5-4BB6-9C1F-3B2BC6B1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0B100-F130-4E62-A1A1-8CD4245B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98333-C1E5-4F17-BD21-BBFF30DF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BC4E1-C4E1-4348-977F-D51328CF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2592E-8F71-4A0B-BC4F-31786912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34625-6047-40FE-ADB3-B4EE9921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EF31-3D30-45D6-8D5A-7E495867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39727-F7D7-415B-AACB-74B45421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EAD7D-B31E-4CCB-B438-A5E8F542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8C1C1-7AE8-42A5-B901-7A2FDF38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BB532-1066-4ABB-B527-BF5EB808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97C71-56F4-4625-B79E-5C77E888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58B15-3154-4115-BB4E-FA946AAF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F0FAB-01FA-4792-92B6-DE67136B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0791C-8690-4D72-9DA8-556802F2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95C28-1624-400C-9A8D-696FEFA5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535CB-6385-440E-882F-8640F94F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0BA4-0CF5-4FB7-8867-3D50B852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ACE5D-275B-4FAE-9004-7920A433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0BDB0-DB6D-4C5E-87F4-7CA9FFCE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0E8EB-6EAC-4742-A187-7BB2CCB9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E6D8F-327A-44AF-B431-30811A3A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8A821-D75C-4BB8-9CA8-41EDB897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B7270-AC6A-45D0-9F2D-3DCD6DEB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1A18A-FFC4-4A07-9089-4F88BD9F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3D12E-C6C9-45F7-81AA-2BDE22D3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BAF3B-4E15-4B59-9AE4-BDE1D9C1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8ADF0-E4BB-468A-A61E-DDB4BFE4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471E-7DAB-42E3-8DBF-EE87D710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96FA1-5B51-4456-A587-57AB71BC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91C2E-3BF6-47C1-B801-8ABFC03F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E87C8-BB1E-4BB7-A0CD-92DF2A9B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83698-C358-4D4B-B70F-168BCC85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E0B17-810D-4B6D-8C62-FA50D153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4CDD8-7030-4D5F-AC8D-77DE11DF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6762E-F038-4F1E-AC08-B13F0C95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038BE-18A4-4C21-BFBE-8E916F6C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63695-1A60-4DA3-9527-73352113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FE035-8E95-4E18-A98B-AA0F760A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82D6-20C3-46DC-9C6B-EE419533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3DAA2-3547-4BF4-B75C-6B4A16DB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F5772-2D43-4ED3-AF8B-D2BE3BD8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0467A-283E-4D61-84E2-7858FDD7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870C7-1B91-45DF-BC4D-BB4AF714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E6156-322B-4831-9B67-E7BF1596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DE569-AC16-4ED3-9187-352FC0B3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3A287-D9ED-45F0-80B9-54C63A5F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4305C-F664-460F-B9D4-DE2F33CB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BE58C-4ECA-49E8-AE40-04A2D164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64C32-0615-4316-9840-10D991B0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F7AB-9BB1-4B4F-9006-D15EFE1C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FE35C-0421-4C3E-B6E9-0AA8F083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B1D21-66C3-4918-84FA-B90B6ACE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F0696-E46B-4CFE-A532-942D4A99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62BAD-D465-4368-95AB-D19DDF27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E46B5-0FED-4E22-B672-47FF2998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C2DAF-716F-493B-814C-AC306AE2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E85C0-C45F-4A3F-9222-3E5369BB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A3FDB-A679-4A73-A0BC-81836680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E9B81-89F2-44C9-876F-BF0AF24C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63E82-803B-4F97-A400-A2DAB586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C72C-6E8D-4BE7-A8CA-47AC55F3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BA534-F95A-4EE1-AE68-19AA33A7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C7E5A-3B6C-4B48-83AB-C961574D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511F7-4B37-47CB-B4D8-5D72BF29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5A4FB-A8F3-4610-B8F3-895EBBB6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1FD53-7186-4180-9326-E6BE7108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F5CC1-7FA7-43AF-8ED4-828DF55C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63C3E-B261-4F27-82BE-BD654BB8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EC2BE-57F6-43BC-8CF8-3FAAD1AF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89FF1-F4F0-45F6-B50A-47A87155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86C58-BA1B-488A-BF00-353B37DB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AE16-F152-48D6-B9C9-853828393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0FB9-5408-4E7C-BCC0-5237C859A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03D5-DA70-4A6F-BE1B-B75AD4D34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99C8-5D5E-4F0E-B340-5BFEA11F8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AD61-FE18-43C1-8461-A011122A2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32B1-B1CA-4EBC-8454-CC7CB6CE5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0986-28DD-49EE-8C97-5CF12DDEC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39F7-6D86-436C-BCBF-FEA695E18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74E7-CE89-475A-8E86-EC1E93DF1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C902-1862-4874-9A05-0A64F5B8D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6BC7-0874-4DE9-B992-89D7786A0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5224-3F6B-4F75-BB39-CA9E258F0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9456-99B6-481F-A665-460855598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F351-3AC9-490A-9C15-2362598CB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7BE5-E133-4032-A28D-66404D5CA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95BF-38BE-41A1-8727-9B6915C28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B38A-E6F8-4D66-83F6-DCDCB991F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48B9-EBED-45D8-B762-2E66BD839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1E0D-CAB0-4719-937B-116426B09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7C6A-9F39-43DD-94E5-4472FB81F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7F0D-A66E-4048-BB07-1F9397BB9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F8F3-2178-498A-BBA8-9B0C652E1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2E62-1F26-46C2-AE54-9C4DF615E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F885-BFF7-43D7-A16F-1D075C2C7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33A0-3F47-4B07-B8C6-7ED619C88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C706-F161-46CA-B5A5-272ED2348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7855-98C7-4C15-8900-997830CAE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1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10.3: rational exponent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9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Your assignmen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695-6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9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14-32 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34-44 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48-76 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78-88 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rational ex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 expressions that contain rational ex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the value of an expression using a calc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expressions in radical or exponential form, interchangea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ational numbers as exponent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numbers are also call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do to both si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(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=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6172200" y="1447920"/>
            <a:ext cx="220968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houlish Fright AOE"/>
              </a:rPr>
              <a:t>Fraction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ules for rational exponent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/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member these previously discussed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*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b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/b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Write in radical form, then simplify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6/8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-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Additional rul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3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Even trickier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/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2" name=""/>
          <p:cNvGraphicFramePr/>
          <p:nvPr/>
        </p:nvGraphicFramePr>
        <p:xfrm>
          <a:off x="457200" y="2666880"/>
          <a:ext cx="1447920" cy="114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666880"/>
                    <a:ext cx="144792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4" name=""/>
          <p:cNvGraphicFramePr/>
          <p:nvPr/>
        </p:nvGraphicFramePr>
        <p:xfrm>
          <a:off x="457200" y="4800600"/>
          <a:ext cx="2666880" cy="127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800600"/>
                    <a:ext cx="266688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Write in radical form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n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y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Write in exponential form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(5x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9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(16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01:23:05Z</dcterms:created>
  <dc:creator>nuhs</dc:creator>
  <dc:description/>
  <dc:language>en-US</dc:language>
  <cp:lastModifiedBy>nuhs</cp:lastModifiedBy>
  <dcterms:modified xsi:type="dcterms:W3CDTF">2007-11-19T21:35:26Z</dcterms:modified>
  <cp:revision>3</cp:revision>
  <dc:subject/>
  <dc:title>10.3: rational exponents</dc:title>
</cp:coreProperties>
</file>